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DC61-F9A3-4DA9-BDE6-A37371CE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EDDB-F315-4971-A232-23EDAABE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C811-9026-48E7-90DB-6E30ED702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CD7C-8305-4C51-8DFB-C2204D19C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D672-BC10-46D9-A07C-9E901177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84AD-23FD-469B-B98B-B95AB916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9B8F-AC4D-4B03-B9E5-CBA3B76A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5212-44FF-4468-9F11-CA3C4CCC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7DCF-54B9-4524-9FC0-2BE7D70E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4B63-0D46-4A14-A424-F08E60E2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5E86-3FF1-4A52-A9AC-5D4F1A41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5370-2C05-4E40-9D76-BA9FA53C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5DA5-166D-43BC-B321-4978457CA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1268280"/>
            <a:ext cx="7918200" cy="201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博士学位课程：</a:t>
            </a:r>
            <a:br>
              <a:rPr sz="2800"/>
            </a:br>
            <a:br>
              <a:rPr sz="2800"/>
            </a:b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      </a:t>
            </a:r>
            <a:r>
              <a:rPr b="1" lang="zh-CN" sz="6600" spc="-1" strike="noStrike">
                <a:solidFill>
                  <a:srgbClr val="cc6600"/>
                </a:solidFill>
                <a:latin typeface="黑体"/>
                <a:ea typeface="黑体"/>
              </a:rPr>
              <a:t>光 学 专 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博士生培养的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专业基础扎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专业技能纯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所研究方向的专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具有领域视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具有领导气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精英人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程目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何反映光学工程学科与测试计量技术与仪器学科的前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何反映国家在光学与仪器领域的需求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何反映光学与仪器学科的总体发展趋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如何从资料收集，阅读、理解之后，发现存在问题，提出研究方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337560" y="5589720"/>
            <a:ext cx="295452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具有领域视野，具有全局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光学专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博士论文课题之外，选择一个国际热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收集资料，认真阅读，了解热点的科学与技术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析这些热点的国内外研究状况，找到突破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写出热点状况与我们的研究策略，或者具体地，就是你所可能提出的研究设想与方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内容占位符 3" descr=""/>
          <p:cNvPicPr/>
          <p:nvPr/>
        </p:nvPicPr>
        <p:blipFill>
          <a:blip r:embed="rId1"/>
          <a:stretch/>
        </p:blipFill>
        <p:spPr>
          <a:xfrm>
            <a:off x="463680" y="890640"/>
            <a:ext cx="8242200" cy="45594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6456240" y="15573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选择方向的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2024640" y="5732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学习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6054120" y="5805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分析与策略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0755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70c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光学合成孔径成像的关键技术与难点以及目前的应用热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70c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光量子的纠缠态与量子成像技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70c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超分辨成像技术（显微、望远）的比较与你的观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70c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自由曲面及光学加工新技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70c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超光速、慢光及其其它光学特异现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70c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量子点光源与器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70c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光量子计算与器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70c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光量子操控（光子冷却、量子干涉、量子存储等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70c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光学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meta-materials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的研究瓶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70c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黑洞的探测，引力波探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70c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当前光通信领域的核心技术与发展趋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70c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光合作用的研究热点与可能的突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70c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Photogenetic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研究的现状与趋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70c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光谱辐射对人体的生理与心理的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70c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认为目前国际上最热门的光学问题，为什么？会怎么演化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要     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每个方向，必须查阅，列出最有代表性的论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篇，仔细阅读论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篇以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主要的作者进行联系与咨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写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万字的光学专题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准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~5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钟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进行由导师与学科学位委员会以及辅导教师参加的报告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光学专题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所选择的题目进行论文检索与国内外调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列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篇该题目公认的核心参考文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报告内容包括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该方向国内外的研究概况：主要研究成果，历史沿革，代表性人物与主要贡献，国内外主要的有代表性的研究机构以及它们的特色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发展方向，或当前研究存在的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果我们开展这个方向的研究工作，如何着手：包括方向与做法；简而言之，工作建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所有引用必须注明参考文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列上所有的参考文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字数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字左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间：一个学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专题程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该课程设辅导教师：刘东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报告评分小组：专题课评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刘东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udongopt@zju.edu.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116000" y="2637000"/>
            <a:ext cx="79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选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673720" y="2637000"/>
            <a:ext cx="729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献收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4474080" y="2565360"/>
            <a:ext cx="729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献阅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与调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6372360" y="263700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写读书报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6653160" y="4149720"/>
            <a:ext cx="1003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交辅导员老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4275720" y="4076640"/>
            <a:ext cx="592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做报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2699640" y="4076640"/>
            <a:ext cx="592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给成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1"/>
          <p:cNvSpPr/>
          <p:nvPr/>
        </p:nvSpPr>
        <p:spPr>
          <a:xfrm>
            <a:off x="1979640" y="2708280"/>
            <a:ext cx="360360" cy="289080"/>
          </a:xfrm>
          <a:prstGeom prst="rightArrow">
            <a:avLst>
              <a:gd name="adj1" fmla="val 50000"/>
              <a:gd name="adj2" fmla="val 311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2"/>
          <p:cNvSpPr/>
          <p:nvPr/>
        </p:nvSpPr>
        <p:spPr>
          <a:xfrm>
            <a:off x="3780000" y="2708280"/>
            <a:ext cx="360360" cy="289080"/>
          </a:xfrm>
          <a:prstGeom prst="rightArrow">
            <a:avLst>
              <a:gd name="adj1" fmla="val 50000"/>
              <a:gd name="adj2" fmla="val 311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3"/>
          <p:cNvSpPr/>
          <p:nvPr/>
        </p:nvSpPr>
        <p:spPr>
          <a:xfrm>
            <a:off x="5508720" y="2708280"/>
            <a:ext cx="718920" cy="287280"/>
          </a:xfrm>
          <a:prstGeom prst="rightArrow">
            <a:avLst>
              <a:gd name="adj1" fmla="val 50000"/>
              <a:gd name="adj2" fmla="val 62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4"/>
          <p:cNvSpPr/>
          <p:nvPr/>
        </p:nvSpPr>
        <p:spPr>
          <a:xfrm>
            <a:off x="6948360" y="3213000"/>
            <a:ext cx="287640" cy="720720"/>
          </a:xfrm>
          <a:prstGeom prst="downArrow">
            <a:avLst>
              <a:gd name="adj1" fmla="val 50000"/>
              <a:gd name="adj2" fmla="val 626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5"/>
          <p:cNvSpPr/>
          <p:nvPr/>
        </p:nvSpPr>
        <p:spPr>
          <a:xfrm>
            <a:off x="5076720" y="3213000"/>
            <a:ext cx="1222560" cy="1295640"/>
          </a:xfrm>
          <a:custGeom>
            <a:avLst/>
            <a:gdLst>
              <a:gd name="textAreaLeft" fmla="*/ 41760 w 1222560"/>
              <a:gd name="textAreaRight" fmla="*/ 1180800 w 1222560"/>
              <a:gd name="textAreaTop" fmla="*/ 937440 h 1295640"/>
              <a:gd name="textAreaBottom" fmla="*/ 1135800 h 12956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100" y="3107"/>
                </a:lnTo>
                <a:lnTo>
                  <a:pt x="9768" y="3107"/>
                </a:lnTo>
                <a:lnTo>
                  <a:pt x="9768" y="15629"/>
                </a:lnTo>
                <a:lnTo>
                  <a:pt x="1942" y="15629"/>
                </a:lnTo>
                <a:lnTo>
                  <a:pt x="1942" y="12960"/>
                </a:lnTo>
                <a:lnTo>
                  <a:pt x="0" y="17280"/>
                </a:lnTo>
                <a:lnTo>
                  <a:pt x="1942" y="21600"/>
                </a:lnTo>
                <a:lnTo>
                  <a:pt x="1942" y="18931"/>
                </a:lnTo>
                <a:lnTo>
                  <a:pt x="19658" y="18931"/>
                </a:lnTo>
                <a:lnTo>
                  <a:pt x="19658" y="21600"/>
                </a:lnTo>
                <a:lnTo>
                  <a:pt x="21600" y="17280"/>
                </a:lnTo>
                <a:lnTo>
                  <a:pt x="19658" y="12960"/>
                </a:lnTo>
                <a:lnTo>
                  <a:pt x="19658" y="15629"/>
                </a:lnTo>
                <a:lnTo>
                  <a:pt x="11832" y="15629"/>
                </a:lnTo>
                <a:lnTo>
                  <a:pt x="11832" y="3107"/>
                </a:lnTo>
                <a:lnTo>
                  <a:pt x="13500" y="310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6"/>
          <p:cNvSpPr/>
          <p:nvPr/>
        </p:nvSpPr>
        <p:spPr>
          <a:xfrm>
            <a:off x="3419640" y="407664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5796000" y="3141720"/>
            <a:ext cx="30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没达要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5385960" y="436572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达要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3:55:05Z</dcterms:created>
  <dc:creator>x.liu</dc:creator>
  <dc:description/>
  <dc:language>en-US</dc:language>
  <cp:lastModifiedBy>LiuXu</cp:lastModifiedBy>
  <dcterms:modified xsi:type="dcterms:W3CDTF">2013-05-30T05:37:23Z</dcterms:modified>
  <cp:revision>45</cp:revision>
  <dc:subject/>
  <dc:title>博士学位课程：                     光学专题</dc:title>
</cp:coreProperties>
</file>